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0.wmf" ContentType="image/x-wmf"/>
  <Override PartName="/ppt/media/image9.wmf" ContentType="image/x-wmf"/>
  <Override PartName="/ppt/media/image16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gif" ContentType="image/gif"/>
  <Override PartName="/ppt/media/image8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6F5-87F4-40F1-B3AE-5CAE396A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C3E-2A0C-48BE-9028-9B42CDAA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48A-47D2-4192-B72E-C2E3DFA4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8DA-8716-4FD3-A929-77BE130C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63C-92CE-44CE-BAAF-6FBCD079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913-18B1-46A4-998E-F012EED3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928-182B-4694-8992-CF8E607E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48A-1561-4C6A-AF30-3FDEB37D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068-958C-4B60-A5E0-B796A997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598-B206-44EA-8431-40D0937D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F48-BD83-4EB5-8DD9-36D06AB5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2A0-C4E5-4D96-AF63-B3FC7FE6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CA63-98BC-47C4-BB14-3AD1C58ED2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r y P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mí, la clase de español es interes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Documents and Settings\grahama\Local Settings\Temporary Internet Files\Content.IE5\EDPIVDAW\MC900104838[1].wmf"/>
          <p:cNvPicPr/>
          <p:nvPr/>
        </p:nvPicPr>
        <p:blipFill>
          <a:blip r:embed="rId1"/>
          <a:stretch/>
        </p:blipFill>
        <p:spPr>
          <a:xfrm rot="1136400">
            <a:off x="6372360" y="5013360"/>
            <a:ext cx="1820880" cy="1139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grahama\Local Settings\Temporary Internet Files\Content.IE5\GGMG9NCL\MC900104836[1].wmf"/>
          <p:cNvPicPr/>
          <p:nvPr/>
        </p:nvPicPr>
        <p:blipFill>
          <a:blip r:embed="rId2"/>
          <a:stretch/>
        </p:blipFill>
        <p:spPr>
          <a:xfrm rot="20152200">
            <a:off x="826560" y="4797000"/>
            <a:ext cx="1818000" cy="104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grahama\Local Settings\Temporary Internet Files\Content.IE5\EDPIVDAW\MC900435205[1].wmf"/>
          <p:cNvPicPr/>
          <p:nvPr/>
        </p:nvPicPr>
        <p:blipFill>
          <a:blip r:embed="rId3"/>
          <a:stretch/>
        </p:blipFill>
        <p:spPr>
          <a:xfrm>
            <a:off x="3651120" y="2843280"/>
            <a:ext cx="18417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entially,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ed in all instances when P.E.R.F.E.C.T.O.does not apply. However, if you like to collect acronyms, here is one to use with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T.R.A.C.T.E.D This acronym covers many, but not all, of the main uses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There are many idiomatic expressions that us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TRA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n talking abou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und a p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ough a p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, as in “going to get someth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n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ound a pl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Hay un banc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quí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j0310602[1]"/>
          <p:cNvPicPr/>
          <p:nvPr/>
        </p:nvPicPr>
        <p:blipFill>
          <a:blip r:embed="rId1"/>
          <a:stretch/>
        </p:blipFill>
        <p:spPr>
          <a:xfrm>
            <a:off x="3276720" y="3141720"/>
            <a:ext cx="30258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r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ugh a pl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l parq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dos los dí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j0410225[1]"/>
          <p:cNvPicPr/>
          <p:nvPr/>
        </p:nvPicPr>
        <p:blipFill>
          <a:blip r:embed="rId1"/>
          <a:stretch/>
        </p:blipFill>
        <p:spPr>
          <a:xfrm>
            <a:off x="2916360" y="2924280"/>
            <a:ext cx="2895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é llegaste tar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l tráfic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3995640" y="357336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fter, as in “going to get something”; usually used afte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Vo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l supermercad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an y lech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j0397778[1]"/>
          <p:cNvPicPr/>
          <p:nvPr/>
        </p:nvPicPr>
        <p:blipFill>
          <a:blip r:embed="rId1"/>
          <a:stretch/>
        </p:blipFill>
        <p:spPr>
          <a:xfrm>
            <a:off x="3348000" y="3645000"/>
            <a:ext cx="23954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gué 20 euro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ta chaque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916360" y="3838680"/>
            <a:ext cx="27352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nks: us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fter “gracia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raci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a ayu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j0104838[1]"/>
          <p:cNvPicPr/>
          <p:nvPr/>
        </p:nvPicPr>
        <p:blipFill>
          <a:blip r:embed="rId1"/>
          <a:stretch/>
        </p:blipFill>
        <p:spPr>
          <a:xfrm>
            <a:off x="2627280" y="3789360"/>
            <a:ext cx="35751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iero cambiar estos zapatos rojo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os negr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419640" y="3789360"/>
            <a:ext cx="2840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PERFECT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P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“in order to”: used together with an infinit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t something has on something el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cipi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ates, deadlines, or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mploym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pari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specific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vivido aquí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ás de diez añ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3203640" y="306864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pose: “in order t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 utiliza con un infin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udi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ac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uenas no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397490[1]"/>
          <p:cNvPicPr/>
          <p:nvPr/>
        </p:nvPicPr>
        <p:blipFill>
          <a:blip r:embed="rId1"/>
          <a:stretch/>
        </p:blipFill>
        <p:spPr>
          <a:xfrm>
            <a:off x="2411280" y="3860640"/>
            <a:ext cx="367344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ffect that something has on something el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y a la universida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ofesor de españ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334112[1]"/>
          <p:cNvPicPr/>
          <p:nvPr/>
        </p:nvPicPr>
        <p:blipFill>
          <a:blip r:embed="rId1"/>
          <a:stretch/>
        </p:blipFill>
        <p:spPr>
          <a:xfrm>
            <a:off x="3203640" y="3357720"/>
            <a:ext cx="2941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cip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ipient: la persona o entidad que recib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e regalo e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0397036[1]"/>
          <p:cNvPicPr/>
          <p:nvPr/>
        </p:nvPicPr>
        <p:blipFill>
          <a:blip r:embed="rId1"/>
          <a:stretch/>
        </p:blipFill>
        <p:spPr>
          <a:xfrm>
            <a:off x="3564000" y="3357720"/>
            <a:ext cx="308916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dates, deadlines, or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 tarea e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ña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el proyecto e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 lu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j0351921[1]"/>
          <p:cNvPicPr/>
          <p:nvPr/>
        </p:nvPicPr>
        <p:blipFill>
          <a:blip r:embed="rId1"/>
          <a:stretch/>
        </p:blipFill>
        <p:spPr>
          <a:xfrm>
            <a:off x="3132000" y="3573360"/>
            <a:ext cx="345600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 emp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baj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 restaurante chilen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12272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ar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 ni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cinco años, lee y escribe muy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3456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o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 towards somewhere (ha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in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 par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j0396786[1]"/>
          <p:cNvPicPr/>
          <p:nvPr/>
        </p:nvPicPr>
        <p:blipFill>
          <a:blip r:embed="rId1"/>
          <a:stretch/>
        </p:blipFill>
        <p:spPr>
          <a:xfrm>
            <a:off x="3132000" y="3284640"/>
            <a:ext cx="29527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1:35:49Z</dcterms:created>
  <dc:creator>slunn</dc:creator>
  <dc:description/>
  <dc:language>en-US</dc:language>
  <cp:lastModifiedBy>grahama</cp:lastModifiedBy>
  <dcterms:modified xsi:type="dcterms:W3CDTF">2012-04-27T12:56:39Z</dcterms:modified>
  <cp:revision>10</cp:revision>
  <dc:subject/>
  <dc:title>Slide 1</dc:title>
</cp:coreProperties>
</file>